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195" spc="-1" strike="noStrike">
                <a:solidFill>
                  <a:srgbClr val="000000"/>
                </a:solidFill>
                <a:latin typeface="Arial"/>
              </a:defRPr>
            </a:pPr>
            <a:r>
              <a:rPr b="0" sz="2195" spc="-1" strike="noStrike">
                <a:solidFill>
                  <a:srgbClr val="000000"/>
                </a:solidFill>
                <a:latin typeface="Arial"/>
              </a:rPr>
              <a:t>Ezequiel Balbino</a:t>
            </a:r>
          </a:p>
        </c:rich>
      </c:tx>
      <c:layout>
        <c:manualLayout>
          <c:xMode val="edge"/>
          <c:yMode val="edge"/>
          <c:x val="0.387066503467972"/>
          <c:y val="0.020109993889228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10403916769"/>
          <c:y val="0.12065996333537"/>
          <c:w val="0.751203590371277"/>
          <c:h val="0.8391756013554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Ezequiel Balbino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09 março</c:v>
                </c:pt>
                <c:pt idx="1">
                  <c:v>2009 abril</c:v>
                </c:pt>
                <c:pt idx="2">
                  <c:v>2009 maio</c:v>
                </c:pt>
                <c:pt idx="3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6.96</c:v>
                </c:pt>
                <c:pt idx="1">
                  <c:v>30.83</c:v>
                </c:pt>
                <c:pt idx="2">
                  <c:v>91.41</c:v>
                </c:pt>
                <c:pt idx="3">
                  <c:v>97.5</c:v>
                </c:pt>
              </c:numCache>
            </c:numRef>
          </c:val>
        </c:ser>
        <c:gapWidth val="100"/>
        <c:overlap val="0"/>
        <c:axId val="54410804"/>
        <c:axId val="70883819"/>
      </c:barChart>
      <c:catAx>
        <c:axId val="544108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83819"/>
        <c:crossesAt val="0"/>
        <c:auto val="1"/>
        <c:lblAlgn val="ctr"/>
        <c:lblOffset val="100"/>
        <c:noMultiLvlLbl val="0"/>
      </c:catAx>
      <c:valAx>
        <c:axId val="70883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080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91228070175439"/>
          <c:y val="0.45530803844230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351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101" spc="-1" strike="noStrike">
                <a:solidFill>
                  <a:srgbClr val="000000"/>
                </a:solidFill>
                <a:latin typeface="Arial"/>
              </a:defRPr>
            </a:pPr>
            <a:r>
              <a:rPr b="0" sz="3101" spc="-1" strike="noStrike">
                <a:solidFill>
                  <a:srgbClr val="000000"/>
                </a:solidFill>
                <a:latin typeface="Arial"/>
              </a:rPr>
              <a:t>Ezequiel Balbino 2009</a:t>
            </a:r>
          </a:p>
        </c:rich>
      </c:tx>
      <c:layout>
        <c:manualLayout>
          <c:xMode val="edge"/>
          <c:yMode val="edge"/>
          <c:x val="0.291379586604711"/>
          <c:y val="0.01994171761613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87261656786"/>
          <c:y val="0.145763099251471"/>
          <c:w val="0.731333119692357"/>
          <c:h val="0.81429632592423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3</c:v>
                </c:pt>
                <c:pt idx="1">
                  <c:v>120</c:v>
                </c:pt>
                <c:pt idx="2">
                  <c:v>138</c:v>
                </c:pt>
                <c:pt idx="3">
                  <c:v>120</c:v>
                </c:pt>
                <c:pt idx="4">
                  <c:v>4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7</c:v>
                </c:pt>
                <c:pt idx="1">
                  <c:v>37</c:v>
                </c:pt>
                <c:pt idx="2">
                  <c:v>117</c:v>
                </c:pt>
                <c:pt idx="3">
                  <c:v>117</c:v>
                </c:pt>
                <c:pt idx="4">
                  <c:v>288</c:v>
                </c:pt>
              </c:numCache>
            </c:numRef>
          </c:val>
        </c:ser>
        <c:gapWidth val="100"/>
        <c:overlap val="0"/>
        <c:axId val="16662171"/>
        <c:axId val="47700466"/>
      </c:barChart>
      <c:catAx>
        <c:axId val="166621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00466"/>
        <c:crossesAt val="0"/>
        <c:auto val="1"/>
        <c:lblAlgn val="ctr"/>
        <c:lblOffset val="100"/>
        <c:noMultiLvlLbl val="0"/>
      </c:catAx>
      <c:valAx>
        <c:axId val="47700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6217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71190514340651"/>
          <c:y val="0.4000342837552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90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ABA-DD00-4475-AC64-1D109E255A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alunos na ste aula de Geografia com o professor Aless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1EB-2A9B-45B3-9561-16371F28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803-C1F7-4A88-957C-D3D72B42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C7B-A628-47E8-BE46-6361BBC9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67A-48C1-403B-BE56-450B0097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B177-2156-424D-847D-68F9F393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9F1C-49DA-48CE-83A3-5530EFBA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46B8-73D9-4B03-98B8-91AB459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18D-4B7D-467B-85A4-C215A77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5E47-22E3-4AA3-88A9-A35A5541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512C-5EC1-4B49-BE14-B657D7A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071D-E20D-4F6D-B0ED-3FC3111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0F2-0861-4316-9353-6DFDB1A5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C542-A324-4135-99B6-63ADD7A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4B9B-42C7-4FA3-AB13-5944176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9AD-B242-4D00-B62A-389C81C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63D-E4D2-48DC-8422-F0BAEC85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C69A-1CC0-43AD-8328-AFC8D1CB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BCC-EE39-4E79-BA13-1080786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0F1-2A9B-4985-A701-B9969CEE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3DE-6631-44D0-9BF1-24004E17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8F0-2C07-4386-8695-E88AB7BF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C16-BF05-478D-A65C-A01A48A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5A8-67A7-480E-98EC-59570BA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353-3F63-4CC1-8F78-AF3DC85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2381-8CDC-48D4-A3DB-77AE47D1B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EB2-622A-4735-8024-E00DE3790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rojeto de agendamento da Escola Estadual Professor Ezequiel Balbino Vila Quebracho – AnauriLândia-M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Língua Estrangeira com a prof. Joan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esquisa na aula de Artes com o professor Emídi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1908000" y="1773360"/>
            <a:ext cx="13039560" cy="97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esquisa na aula de Língua Portuguesa com o prof. Atevald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RÁFICO DO 1º SEMESTRE DA STE DA ESCOLA EZEQUIEL BALBIN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60600" y="1676520"/>
          <a:ext cx="6021360" cy="4422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RAFICO DE FREQUENCIA DA STE DA ESCOL A EZEQUIEL BALBIN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17680" y="1676520"/>
          <a:ext cx="6308640" cy="4422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Geografia com o Professor Alessandr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981080" y="1413000"/>
            <a:ext cx="13039560" cy="87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Matemática com o Prof. Evert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1908000" y="1700280"/>
            <a:ext cx="13039560" cy="97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Ciências com o Prof. Bernardin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2803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rofessores fazendo o curso do Linux com o Prof. Eduard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rofessores fazendo o curso do LINUX com o prof. Emídi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Língua Portuguesa com a prof. Mar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23:51Z</dcterms:created>
  <dc:creator>EMIDIO</dc:creator>
  <dc:description/>
  <dc:language>en-US</dc:language>
  <cp:lastModifiedBy>EMIDIO</cp:lastModifiedBy>
  <dcterms:modified xsi:type="dcterms:W3CDTF">2009-07-10T20:03:22Z</dcterms:modified>
  <cp:revision>4</cp:revision>
  <dc:subject/>
  <dc:title>Projeto de agendamento da Escola Estadual Professor Ezequiel Balbino</dc:title>
</cp:coreProperties>
</file>